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5B2-3397-4AFA-BE97-A7053435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4AE4-C9A0-4203-A360-EC67A30E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E52-7F0D-4F32-B385-15147B01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144-363F-49CE-A912-03E1A1C5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B993-34A6-46E4-8996-159B0E6F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5186-C13A-43E6-A628-DABF6B06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EFC5-AE4C-470D-AD1D-B99DFCAA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1E21-8A63-4377-A045-E5B3AE06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46FF-CC1F-4390-A8DF-C2E6E82D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47C7-41D0-47D9-BF09-412F304C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83C3-B2C8-4E19-9EC1-6C2A24C8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6A8-F6EA-40F7-BDD6-D58B53AA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9733-D0EA-4EEE-A1FB-7D050E62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98E3-6527-45C3-91D0-64256398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66C0-CBD7-4A18-8D93-EBE78089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6241-4690-42CE-B940-3B2A3C7D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5346-64AA-4B09-9025-7A561DE9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54B-60E2-421B-9CEF-648B2B00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8DE-466F-463A-8AD1-FDDC1AAC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378-0A46-4CB9-859F-5BC78DC9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F7E-52E4-40F8-82E8-A4834A10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950-1E9F-4EBE-8AD0-FF1E05ED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98A-0172-4BE8-8677-E642F3FC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7EA-E921-4928-8D24-0585CDBE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2554-C3F4-4B4E-9F24-705EF32A66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5559-589E-48E4-A23C-4319AE1A16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18T18:57:44Z</dcterms:modified>
  <cp:revision>4</cp:revision>
  <dc:subject/>
  <dc:title>Mon nom est: </dc:title>
</cp:coreProperties>
</file>